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04C3A-6148-4413-93ED-7297F3B20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C8374-E981-405E-B4D8-07AAABBDF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CB638-2861-40DB-B588-C87663CE2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7614-F55C-4148-BF9A-1D32952BC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B4140-AB2F-4B26-B448-B4D9960904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24328-BAAE-4A88-9A99-30DBD01505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F3613-5864-45BB-9E4A-19DFA64ED2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9A227-0102-41D9-9A68-235EF98D15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579FF-F1FC-4683-92D4-045260B851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CC6B1-D0A7-4146-B5F6-9DE87CA545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D8973-5262-4C12-A861-9E18FE5EB6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539BD-448C-4C69-9E50-AB8CA1B8D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13814-DC63-46BF-818C-DFFA7DE914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40265-4F08-48CF-A591-5C5B8F69ED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804C8-8CD9-4AE3-8692-522A895BD7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A7C6B-D638-4B47-AF98-63FBB72D25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1173F-8B49-4780-8239-8CCEB2D4D0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E6EAC-5EB6-42F3-8CA4-56182D213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BCB1-9019-4980-84F0-2CB7F4880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909A3-D887-486D-8E58-AFFA80DBF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AC7CD-9C2C-4D1F-BFFF-E450151A5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F67C2-62E7-4CE2-9BCB-20E47A674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FC494-1C1D-4475-8A97-32EF2E26C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3E397-8CEB-48E2-BF4D-02807CF58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B625658-8903-485E-AE3A-85C79FD0F01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FE1FFBF-DBD1-4471-A1D6-A7524750C8F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AD1789A-E158-4FC3-A2D7-5BDA89AD4BF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9C41A24-D86A-4062-9BCE-14AE1FFCEF9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6-05-03T14:43:52Z</dcterms:modified>
  <cp:revision>310</cp:revision>
  <dc:subject/>
  <dc:title>REGRESSION ANALYSIS</dc:title>
</cp:coreProperties>
</file>